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6312-80B5-477B-84EB-8545E24871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49D2-EA3A-42CF-948C-1B4152F7E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0858-3625-4918-B769-03D15BC32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76DA-54BF-43A1-8785-C17E83352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ECDB-157C-4473-9C2C-32D4E85F50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BD82-10B0-45A7-AA1C-6F7424825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A03D-58DF-429F-9342-FCCDAFD62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DDB9-3936-4800-BF41-795D25160E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BA89-FE69-4C58-9303-159005C957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8033-3989-4E17-85CA-13450DC4B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0839-4574-42F8-9C78-091D0A487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2F16-0FA1-4464-9FDB-E12EFF27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1D13-3397-4440-9068-DEE0F15E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440-48A6-4E3F-AB45-2E1C4FC6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DC55-05D5-4E9E-8891-695ED430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A266-85B3-4F8C-B63A-59F5D6E1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9FD4-E40B-4B32-BDB6-D9CD40CC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1C3D-F37B-4877-B3F7-E4B09BB5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40D2-64A3-4DEB-AE19-A9C2D780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F5EE-CAE6-4081-9B66-4B83BCCD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13AE-F8F5-453A-BA35-9AA375FA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29ED-14C1-423C-9281-51B22A52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F9C4-177F-4EC5-B46C-BC77C2BB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5ADC-8C20-421D-9203-2C929E23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94C7-1587-452F-8713-C82CFDB5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0AEF-4AB5-409D-A959-23D51877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2A6F-1C6C-480D-97B7-0918689E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930F-C6EB-4A59-AE56-4852A2E3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30240-E900-4A63-93E1-0532BE9B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111B5-0737-47DF-81C1-562208F8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6E516-486B-4126-BE02-405694B9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79540-E791-4756-B526-BF0DC313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0382F-A810-476E-B97D-FF554BE8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EDA6-79FB-4723-B3C0-1B120BE1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5BB64-5DB1-461F-A88B-38847DF6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77FE2-3B2E-48CF-8975-C91E6614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080AC-7497-4EA4-A43F-028A0251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A43EC-C79F-4EE5-A4A8-A88F03D9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8470C-B032-4A72-BEEC-02334265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41BB2-C762-4994-95D7-B47C58A0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86053-6BDB-4809-A110-99B7A0ED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7EEF2-FDFA-4BB4-954E-380142E0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02ED4-9206-4CDB-9527-27C1BF11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75AAA-BACC-4C42-80D8-D27FC735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6633-228A-4D57-A40C-BD8B1AA5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3AC5A-E170-4B4F-9CFE-306479B7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832BD-FC1A-4C42-ABD3-A305D17D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D3AE2-D90C-4E64-8A9C-BA3C8309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EA301-3615-4BA2-B6FD-5482188F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C6AC0-AED0-44DA-B561-E5937223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6B1B3-BE13-4D95-B789-A3933670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D929E-3B08-409C-8E4E-D7621F54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DEEA2-82D6-4800-B097-71D0E2D7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4EA67-9F24-4DD2-AC0E-6E12EDB1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654E3-85E1-4335-AAC7-33B6755D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FE8D-D01B-4134-AE19-8727B2D4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A38D0-769E-4E55-A4F6-B783DD74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89595-E119-4A6B-88A4-58D84BBE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C34D9-6E78-4698-9CC6-1D1A9490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1D14D-D34D-48A2-AD70-5CE8C5C9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F3AE8-2C30-4B9C-A6C5-25B4B258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5B183-8AB0-4801-B8D8-3C8E00B4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0D385-1F20-4C82-8E82-5AA24027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3F6E3-27BF-4622-9CFF-15C56606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BE96A-E109-4996-9770-D0BEDBDD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4B78A-FB2B-4A67-84E1-9E74C2C1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3ECD-83A0-4B24-B405-8C1377A6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72B1D-6E3B-4EB6-8F6A-891BE410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AAAF-089E-415A-A4D5-4F88A020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8B45-6652-4B28-8A0D-AD2760FA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8B6E-968C-4E03-A66C-714B12EB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141A-1F1D-492B-8315-BF276085673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039F-F025-4A2A-AE5C-B7CC709F510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7456-1D59-4854-AF36-E8DA78D280D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8C36-C9B5-455C-BF0D-42ACDE66327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35AE-0FFC-40A5-8945-59366357D7C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Suda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By : Scot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Social Studie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7" name="Picture 3" descr="C:\Users\Melissa\Pictures\AOOW1K3CAE49ZD7CAW0YIOKCAVEPGPNCASL1TCYCASKNZSPCAN9D122CAVXO2A0CAXN50JHCAP1D710CA365QX0CABE3J8FCAIU4QELCAK1MWWZCAPOZL2MCAEH21MBCA6BL5H4CAHGUK8UCAON2N2U.jpg"/>
          <p:cNvPicPr/>
          <p:nvPr/>
        </p:nvPicPr>
        <p:blipFill>
          <a:blip r:embed="rId1"/>
          <a:stretch/>
        </p:blipFill>
        <p:spPr>
          <a:xfrm>
            <a:off x="2057400" y="3429000"/>
            <a:ext cx="5105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                  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Future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 think the future of Sudan is going to be more civil war and agriculture will be the leading industry in Suda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6" name="Picture 2" descr="C:\Users\Melissa\Pictures\AHFBDBRCA6VFULPCADSA1S3CA1E1N8DCAFK3N5BCAERLQCACAKY3LBFCAAZSVERCA7T9CYACA2MKI6RCASSKSLTCAC58JJZCATR5PLFCAPJJHZBCA82X722CAK5PW28CAX27E1KCA9TDHNGCAGR2DZ5.jpg"/>
          <p:cNvPicPr/>
          <p:nvPr/>
        </p:nvPicPr>
        <p:blipFill>
          <a:blip r:embed="rId1"/>
          <a:stretch/>
        </p:blipFill>
        <p:spPr>
          <a:xfrm>
            <a:off x="4849920" y="2209680"/>
            <a:ext cx="3986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                         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ap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380988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4817"/>
                </a:solidFill>
                <a:latin typeface="Franklin Gothic Book"/>
              </a:rPr>
              <a:t>-Sudan is located near the north east of Africa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4817"/>
                </a:solidFill>
                <a:latin typeface="Franklin Gothic Book"/>
              </a:rPr>
              <a:t>-It Borders Chad, Egypt, Ethiopia, Eritrea, Libya, and the central African Republic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952880" y="1599840"/>
            <a:ext cx="37339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4817"/>
                </a:solidFill>
                <a:latin typeface="Franklin Gothic Book"/>
              </a:rPr>
              <a:t>-Capital is Khurtou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4817"/>
                </a:solidFill>
                <a:latin typeface="Franklin Gothic Book"/>
              </a:rPr>
              <a:t>Divided into north and south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Picture 2" descr="C:\Users\Melissa\Pictures\A27QVRACA4UYW8QCAUVG8UHCAV2R3IRCA73JBISCAJLHYCSCAB5L9OFCA1Q7T9FCAZJTM3LCAF4RWK4CAFY6XQOCAUXEXDJCA8YRIA1CAMYVDZXCAQ3GCAPCAICQ3BRCA361D5LCA7OEF02CABL8FW2.jpg"/>
          <p:cNvPicPr/>
          <p:nvPr/>
        </p:nvPicPr>
        <p:blipFill>
          <a:blip r:embed="rId1"/>
          <a:stretch/>
        </p:blipFill>
        <p:spPr>
          <a:xfrm>
            <a:off x="457200" y="3505320"/>
            <a:ext cx="2986200" cy="3124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C:\Users\Melissa\Pictures\A27QVRACA4UYW8QCAUVG8UHCAV2R3IRCA73JBISCAJLHYCSCAB5L9OFCA1Q7T9FCAZJTM3LCAF4RWK4CAFY6XQOCAUXEXDJCA8YRIA1CAMYVDZXCAQ3GCAPCAICQ3BRCA361D5LCA7OEF02CABL8FW2.jpg"/>
          <p:cNvPicPr/>
          <p:nvPr/>
        </p:nvPicPr>
        <p:blipFill>
          <a:blip r:embed="rId2"/>
          <a:stretch/>
        </p:blipFill>
        <p:spPr>
          <a:xfrm>
            <a:off x="5334120" y="3124080"/>
            <a:ext cx="26002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udan’s Major Imports and Expor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4817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4817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mports are foodstuffs and textil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ports are cotton, peanut, cottonseed, sesame product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7" name="Picture 4" descr="C:\Users\Melissa\Pictures\ALE141FCA60KV9MCAQXVXI5CAMPCX54CAS0EBU3CA0KO1E2CA8YGR6KCABT6BNNCA176BDBCAUE5IW2CAALHXB1CAOYMUCZCANNP1THCAE9ZFHSCA5M13DSCAQ1XNFDCA0TJ212CAXMMNLMCA7JAOY9.jpg"/>
          <p:cNvPicPr/>
          <p:nvPr/>
        </p:nvPicPr>
        <p:blipFill>
          <a:blip r:embed="rId1"/>
          <a:stretch/>
        </p:blipFill>
        <p:spPr>
          <a:xfrm>
            <a:off x="4952880" y="2286000"/>
            <a:ext cx="2457720" cy="1752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C:\Users\Melissa\Pictures\ALIFF6YCA0CI94UCAY52CWOCACFWUMHCAL8A70ACAX3B31ECA6930GLCANAP75NCABR6SGSCAWA9WRECA70ZVEWCAZU513ZCAI91QVFCA53J5SPCAJSBS3DCAXOHYBLCA1JNZ3ECALT6GFUCAOJDP39.jpg"/>
          <p:cNvPicPr/>
          <p:nvPr/>
        </p:nvPicPr>
        <p:blipFill>
          <a:blip r:embed="rId2"/>
          <a:stretch/>
        </p:blipFill>
        <p:spPr>
          <a:xfrm>
            <a:off x="5105520" y="4267080"/>
            <a:ext cx="327636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                     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Fast Fac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4817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4817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220932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pulation = 40,218,456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fe Expectancy = 50.28 yea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teracy = 61.1%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urrency = Sudanese poun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igions = Sunni Muslim,  Christian, and indigenous belief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3" name="Picture 2" descr="C:\Users\Melissa\Pictures\AOOW1K3CAE49ZD7CAW0YIOKCAVEPGPNCASL1TCYCASKNZSPCAN9D122CAVXO2A0CAXN50JHCAP1D710CA365QX0CABE3J8FCAIU4QELCAK1MWWZCAPOZL2MCAEH21MBCA6BL5H4CAHGUK8UCAON2N2U.jpg"/>
          <p:cNvPicPr/>
          <p:nvPr/>
        </p:nvPicPr>
        <p:blipFill>
          <a:blip r:embed="rId1"/>
          <a:stretch/>
        </p:blipFill>
        <p:spPr>
          <a:xfrm>
            <a:off x="5105520" y="2514600"/>
            <a:ext cx="3120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           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udan’s Cultur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4817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4817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90360" y="2209320"/>
            <a:ext cx="3733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 is Customary for wealthier  people to kill a sheep and give it to people less wealthie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aving the Ramadan feas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birthday of the prophet Muhammad is a children’s holida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elebrations are of Muslim belief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8" name="Picture 2" descr="C:\Users\Melissa\Pictures\ACQXEP8CA1HMREDCAOIX9CQCAN5RS7LCA1W13SMCAK67VDLCA8CW6AVCAN0DENHCAC7HK59CA09486WCA1RKXGWCAGVYKV8CAESX3UYCAMW2SAKCAUNHW7JCAIP9KIICATPB9EGCACRIHKVCAVOLLBJ.jpg"/>
          <p:cNvPicPr/>
          <p:nvPr/>
        </p:nvPicPr>
        <p:blipFill>
          <a:blip r:embed="rId1"/>
          <a:stretch/>
        </p:blipFill>
        <p:spPr>
          <a:xfrm>
            <a:off x="5105520" y="2590920"/>
            <a:ext cx="327636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           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udan’s Governmen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4817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34817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urrently is a military style government but is supposed to move to a presidential governm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untry divided into 26 states controlled by a governo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urrent president is Omer Hassan A. Al-Bash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3" name="Picture 2" descr="C:\Users\Melissa\Pictures\sbashir.gif"/>
          <p:cNvPicPr/>
          <p:nvPr/>
        </p:nvPicPr>
        <p:blipFill>
          <a:blip r:embed="rId1"/>
          <a:stretch/>
        </p:blipFill>
        <p:spPr>
          <a:xfrm>
            <a:off x="5029200" y="2362320"/>
            <a:ext cx="335268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             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udan’s civil W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roke out in 1983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rst Conflict ended in May 2004 then another war started between black muslim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splaced over 4 million southerner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6" name="Picture 2" descr="C:\Users\Melissa\Pictures\images.jpg"/>
          <p:cNvPicPr/>
          <p:nvPr/>
        </p:nvPicPr>
        <p:blipFill>
          <a:blip r:embed="rId1"/>
          <a:stretch/>
        </p:blipFill>
        <p:spPr>
          <a:xfrm>
            <a:off x="5184720" y="2286000"/>
            <a:ext cx="39592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     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udan’s Independence da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January 1, 1948 declared independenc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uly gained independence in 1956 from Egypt and Britain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9" name="Picture 2" descr="C:\Users\Melissa\Pictures\images.jpg"/>
          <p:cNvPicPr/>
          <p:nvPr/>
        </p:nvPicPr>
        <p:blipFill>
          <a:blip r:embed="rId1"/>
          <a:stretch/>
        </p:blipFill>
        <p:spPr>
          <a:xfrm>
            <a:off x="4876920" y="1600200"/>
            <a:ext cx="281916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    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US launches Cruise missil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ugust 20, 1998 US launched cruise missiles that destroyed pharmaceutical facility in Khartoum which allegedly made chemical weapon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 says the facility was financed by Osama Bin Lade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2" name="Picture 2" descr="C:\Users\Melissa\Pictures\AZYODNBCA8T901WCAFR1MWECATQC5VRCA9VE6OGCAERTGJKCAIJ2W1YCAEQK7SXCAXYHSWSCAXNN369CA8628LHCAIAC0IKCANP382CCAOS1JM9CABNV29FCALLYXSCCAG0LT9OCA61WAPHCA35RVF5.jpg"/>
          <p:cNvPicPr/>
          <p:nvPr/>
        </p:nvPicPr>
        <p:blipFill>
          <a:blip r:embed="rId1"/>
          <a:stretch/>
        </p:blipFill>
        <p:spPr>
          <a:xfrm>
            <a:off x="5410080" y="1523880"/>
            <a:ext cx="2227320" cy="2000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C:\Users\Melissa\Pictures\AQ57E6ECA2B7OZACAGKFG0PCA0IJ1TBCA619M2DCAMJG2L4CABG68ITCAP07J1GCA3938QFCAFE6PNHCAHNVOZ0CARDU2D5CAP13HVBCANWVL56CAZI264RCATKKZ1KCA9FHAX4CAXWOBF7CAEKZ0FB.jpg"/>
          <p:cNvPicPr/>
          <p:nvPr/>
        </p:nvPicPr>
        <p:blipFill>
          <a:blip r:embed="rId2"/>
          <a:stretch/>
        </p:blipFill>
        <p:spPr>
          <a:xfrm>
            <a:off x="4648320" y="3565440"/>
            <a:ext cx="297180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0:48:51Z</dcterms:created>
  <dc:creator>Melissa</dc:creator>
  <dc:description/>
  <dc:language>en-US</dc:language>
  <cp:lastModifiedBy>Melissa</cp:lastModifiedBy>
  <dcterms:modified xsi:type="dcterms:W3CDTF">2008-11-10T01:28:50Z</dcterms:modified>
  <cp:revision>16</cp:revision>
  <dc:subject/>
  <dc:title>Sudan By : Scott Social Studies</dc:title>
</cp:coreProperties>
</file>